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B0-C828-44AD-8242-05307F8F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253-AE66-423D-BD90-D37CCA1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881-85D3-4941-8062-23CE875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4FF-99D3-49E6-9F88-9E80FA4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C14-21F3-40E9-8703-72F6984D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3E4-FF72-4761-AC1F-1C3C855E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250-A792-4847-BC77-62D8715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EC0-C26A-45A8-A5AE-1F15F1B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5F5-00AC-425C-AAF9-4F63AE3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879-580B-479F-A035-3DCC323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B1F-EF63-4D89-BC96-97074E9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D9-F995-4221-A4D1-BA67AE2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8547-8888-4D83-9546-29741915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79157naqLxMiIal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697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85800"/>
            <a:ext cx="335268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ــا أبانــا الحق إبنُكَ المَذبوحْ قربانَ فِـ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قبَـــلْ مَـن ذاق ليبرِّرَنــا أهــوالَ  الرَد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92187KzkgEjNdws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ِقبَـلْ منـا هـذا القربـانْ واصفَح عَنـ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نـسَ خطايــا ضِـدَ جَلالـَـك صدرَت م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684030QzQKrpGfyW_ph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743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ظرْ يا ربْ لِخطيئتِنا وذبيحتِ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ذبيحتُنـا أعلى جـداً مـن خطيئتِنــــ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358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Simplified Arabic"/>
              </a:rPr>
              <a:t>دمُـهُ المُهــرَقْ فوقَ الجلجلــة  ليخلصَنـا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َضـرَعُ عنّـا فاسمَـعْ لأجلِـهِ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صوتَ صلاتِنــا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4031060nWgdwk_ph" descr=""/>
          <p:cNvPicPr/>
          <p:nvPr/>
        </p:nvPicPr>
        <p:blipFill>
          <a:blip r:embed="rId1"/>
          <a:stretch/>
        </p:blipFill>
        <p:spPr>
          <a:xfrm>
            <a:off x="384012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t11" descr=""/>
          <p:cNvPicPr/>
          <p:nvPr/>
        </p:nvPicPr>
        <p:blipFill>
          <a:blip r:embed="rId1"/>
          <a:stretch/>
        </p:blipFill>
        <p:spPr>
          <a:xfrm>
            <a:off x="38862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27672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Simplified Arabic"/>
              </a:rPr>
              <a:t>ألمُ المساميـرْ جُـرحُ الحربـة قاسـى حبيبَك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Times New Roman"/>
              </a:rPr>
              <a:t>في آلامِـــهِ مـا يُحيينـــا ويُرضــي قلبَـ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33:13Z</dcterms:created>
  <dc:creator>SUZANNE.MD</dc:creator>
  <dc:description/>
  <dc:language>en-US</dc:language>
  <cp:lastModifiedBy>SUZANNE.MD</cp:lastModifiedBy>
  <dcterms:modified xsi:type="dcterms:W3CDTF">2003-03-10T06:59:55Z</dcterms:modified>
  <cp:revision>1</cp:revision>
  <dc:subject/>
  <dc:title>PowerPoint Presentation</dc:title>
</cp:coreProperties>
</file>